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51946"/>
        <c:axId val="24619432"/>
      </c:barChart>
      <c:catAx>
        <c:axId val="21951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19432"/>
        <c:crosses val="autoZero"/>
        <c:auto val="1"/>
        <c:lblAlgn val="ctr"/>
        <c:lblOffset val="100"/>
        <c:noMultiLvlLbl val="0"/>
      </c:catAx>
      <c:valAx>
        <c:axId val="24619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51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089-B52F-4737-811C-42E16AB9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37F-9757-4358-BB0E-3CBCAE9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503-B9AA-4BA3-8C25-D9403881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73F-E87D-4AA3-B431-0950C48F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4E6-F2D6-43DC-A78D-D141E2FD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C07-B4B0-4ABA-BA44-7F2A745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AC7-4C1C-4920-824E-22F0C578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65C-5FBC-4475-8472-20391BE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26C-8CB7-485F-827C-CD6FAA1E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901-338E-45BC-A101-8739BFA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5A5-2D9D-4AC2-B506-A5F57BC1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694-85A1-4107-8A21-E37FC37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0ADEA-C5B7-4ABB-8762-C958F2AAE7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