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1130"/>
        <c:axId val="65861506"/>
      </c:barChart>
      <c:catAx>
        <c:axId val="8065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1506"/>
        <c:crosses val="autoZero"/>
        <c:auto val="1"/>
        <c:lblAlgn val="ctr"/>
        <c:lblOffset val="100"/>
        <c:noMultiLvlLbl val="0"/>
      </c:catAx>
      <c:valAx>
        <c:axId val="65861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4B4-D8CE-4BB7-8CF0-21B6CA53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7A6-1F46-464F-ABAF-C0B2075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BCA-B572-4E20-B4F6-B946D55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0C4-4F0B-4303-B8D7-5743B666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3B8-0784-4111-982A-83F5DB14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7AE-894F-4C9D-B814-90FCAE6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557-30D3-4591-A87A-1DAAB765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51E-994E-4D4F-B724-1EF2E1B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9D9-87A7-4563-9514-134A281B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72D-694D-41A9-852F-7BA110E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795-31EE-40E3-AD74-096B18B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E3A-5BBC-4C04-A089-3FD6FE0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59A87-1943-421B-AEA3-F10BF8E6B2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